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98C-174B-4046-90EC-9C665930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951-243E-428D-8FBB-D53DF4E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391-38D3-4476-9533-32260ECD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C9C-D08C-4DB5-897B-F978AEFE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6849-03A1-4C89-80E7-D3C0217E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55C7-9289-4614-A914-5F5865F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AAF-2CA9-4B02-BCBB-5F600602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1D4-00E1-4128-A56B-D68B4A4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A48-D2E3-42F8-9172-4594E3D0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1FB-E523-4259-BB4F-3A2772D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240-C078-431B-93C7-5144513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FAE-57CB-4D61-8375-A3BCD2F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7E9E-3501-45C9-B5A2-FF9F29B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4068-4D83-42AC-882A-3884B99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114E-40DB-440B-8B26-EE3A8EF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6DE-DFFA-43B0-8173-553C0B83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138-8673-4735-85BF-4410DA46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6F9-F147-4437-AF4E-CBF5B5CE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762-DD70-42E0-8925-1C02BFA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418-227F-4BF6-B3AD-C0CF4F6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081-1487-4CF2-83DF-BCCD003B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871-53C8-4A9A-98B9-9EBD04F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B80-F3DD-4851-8D28-94F1BD0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46A-159E-4511-BB66-3D210C07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13DF-B31E-4EFB-BE79-38118914E8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6B1-105F-48A5-A69B-194CCFBCE5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uswitch.com/water/ how-much-water-use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blog.naver.com/leemail07?Redirect=Log&amp;logNo=40034391615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querycat.com/faq/ f4c59fee94b30846229276c79121f335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iki.answers.com/Q/How_many_ml_of_water_does_a_person_need_a_day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hc-sc.gc.ca/fn-an/ food-guide-aliment/basics-base/quantit-eng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Seong Min's personal interview with his math tutor. 30 Nov.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30 Nov. 2008 &lt;http://www.data360.org/ dsg.aspx?Data_Set_Group_Id=7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ty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30 Nov. 2008 &lt;www.snopes.com/medical/myth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glasses.asp&gt;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a</cp:lastModifiedBy>
  <dcterms:modified xsi:type="dcterms:W3CDTF">2008-11-30T11:42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